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380880"/>
            <a:ext cx="777240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Quests</a:t>
            </a:r>
            <a:endParaRPr b="0" lang="en-US" sz="4400" spc="-1" strike="noStrike">
              <a:solidFill>
                <a:srgbClr val="000000"/>
              </a:solidFill>
              <a:latin typeface="Arial"/>
            </a:endParaRPr>
          </a:p>
        </p:txBody>
      </p:sp>
      <p:pic>
        <p:nvPicPr>
          <p:cNvPr id="1" name="" descr=""/>
          <p:cNvPicPr/>
          <p:nvPr/>
        </p:nvPicPr>
        <p:blipFill>
          <a:blip r:embed="rId2">
            <a:lum bright="70000" contrast="-70000"/>
          </a:blip>
          <a:stretch/>
        </p:blipFill>
        <p:spPr>
          <a:xfrm>
            <a:off x="533520" y="1447920"/>
            <a:ext cx="7924680" cy="527688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2209320"/>
            <a:ext cx="7848720" cy="388620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WebQuest?</a:t>
            </a:r>
            <a:endParaRPr b="0" lang="en-US" sz="3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nquiry activity</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of the information is drawn from the Web</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focus learners’ attention on using information rather than finding it</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learners’ thinking at levels of analyzing, evaluating and creating - the higher levels of Bloom’s Taxonomy</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caffolding by giving links to resources, guidance in the process, and sometimes templates for developing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1523880"/>
            <a:ext cx="7391520" cy="28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Building Blocks of a WebQu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 Introduc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Orients the learner to the project and raises their interest in the WebQuest.  The introduction should be relevant to the learner’s experience and goals. It should be visually attractive, have a timeline so that students understand that they need to finish in a timely manner, and it should be fun to do.</a:t>
            </a:r>
            <a:endParaRPr b="0" lang="en-US" sz="2000" spc="-1" strike="noStrike">
              <a:solidFill>
                <a:srgbClr val="000000"/>
              </a:solidFill>
              <a:latin typeface="Arial"/>
            </a:endParaRPr>
          </a:p>
        </p:txBody>
      </p:sp>
      <p:sp>
        <p:nvSpPr>
          <p:cNvPr id="42" name=""/>
          <p:cNvSpPr/>
          <p:nvPr/>
        </p:nvSpPr>
        <p:spPr>
          <a:xfrm>
            <a:off x="990720" y="452448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 Tas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s of interesting activities for students to carry out during the Quest. States what they are expected to produce by the end— some kind of a product or verbal present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90720" y="1676520"/>
            <a:ext cx="7619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 Proces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step-by-step information about how to do the tasks. It may include guidance about roles students should take or how to organize the tasks to be done. It may also contain instructional advice, such as how to work in groups to do the project.</a:t>
            </a:r>
            <a:endParaRPr b="0" lang="en-US" sz="2000" spc="-1" strike="noStrike">
              <a:solidFill>
                <a:srgbClr val="000000"/>
              </a:solidFill>
              <a:latin typeface="Arial"/>
            </a:endParaRPr>
          </a:p>
        </p:txBody>
      </p:sp>
      <p:sp>
        <p:nvSpPr>
          <p:cNvPr id="44" name=""/>
          <p:cNvSpPr/>
          <p:nvPr/>
        </p:nvSpPr>
        <p:spPr>
          <a:xfrm>
            <a:off x="1143000" y="3794040"/>
            <a:ext cx="7620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ever the students need to carry out the tasks. To some extent, they are hypertext links to good Web sites containing information students will need. The purpose is to help students focus on the topic rather than looking for the information. Sometimes these can be divided among group members so that sharing information increases collaboration and creates an environment of interdependen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90720" y="1676520"/>
            <a:ext cx="7619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5 - Evalua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students know how they will be assessed. A rubric may be used for authentic assessment. The rubric should assess various aspects of the WebQuests as well as provide for different levels of accomplishment.</a:t>
            </a:r>
            <a:endParaRPr b="0" lang="en-US" sz="2000" spc="-1" strike="noStrike">
              <a:solidFill>
                <a:srgbClr val="000000"/>
              </a:solidFill>
              <a:latin typeface="Arial"/>
            </a:endParaRPr>
          </a:p>
        </p:txBody>
      </p:sp>
      <p:sp>
        <p:nvSpPr>
          <p:cNvPr id="46" name=""/>
          <p:cNvSpPr/>
          <p:nvPr/>
        </p:nvSpPr>
        <p:spPr>
          <a:xfrm>
            <a:off x="1066680" y="3581280"/>
            <a:ext cx="76201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6 - Conclus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s the lesson and extends it beyond the WebQuest. It provides a natural sense of closure to th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600200"/>
            <a:ext cx="7696440" cy="38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should a WebQuest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term - </a:t>
            </a:r>
            <a:r>
              <a:rPr b="0" lang="en-US" sz="2000" spc="-1" strike="noStrike">
                <a:solidFill>
                  <a:srgbClr val="000000"/>
                </a:solidFill>
                <a:latin typeface="Arial"/>
              </a:rPr>
              <a:t>A WebQuest is one that can be completed in about three class periods. Its expected outcome might be looking at and understanding a fair amount of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ng-term - </a:t>
            </a:r>
            <a:r>
              <a:rPr b="0" lang="en-US" sz="2000" spc="-1" strike="noStrike">
                <a:solidFill>
                  <a:srgbClr val="000000"/>
                </a:solidFill>
                <a:latin typeface="Arial"/>
              </a:rPr>
              <a:t>A WebQuest may last from a week to a month. The student would be expected to delve into the information, analyze it thoroughly, and transform it in some way. The product would be one that shows the student understands the material and invites others to participate in some way. The product does not have to be an on-line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1600200"/>
            <a:ext cx="784836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put a WebQuest togeth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the development of any lesson, you start with choosing the topic that lends itself to a WebQuest that fits into your curriculu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ing on the objectives and finding the resources for the lesson becomes an interactive process as you move back and forth between the tw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ding on the tasks and creating the assessment piece is also interactive as one influences the oth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develop the WebQuest web pages. Then use the WebQuest with your students. As you see it in use you will find ways to refine it. This becomes part of the cycle of cre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17:53:16Z</dcterms:created>
  <dc:creator>WEITZA</dc:creator>
  <dc:description/>
  <dc:language>en-US</dc:language>
  <cp:lastModifiedBy>Adele</cp:lastModifiedBy>
  <dcterms:modified xsi:type="dcterms:W3CDTF">2008-08-01T14:39:16Z</dcterms:modified>
  <cp:revision>5</cp:revision>
  <dc:subject/>
  <dc:title>WebQuests</dc:title>
</cp:coreProperties>
</file>